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FCF0CCB-4F5D-40F1-A457-9A338D6691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9442E8-75C7-481E-960D-D81A1B0612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AE1BE33-0C3C-44C1-B972-CAE4338C74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8B1AA04-EB3C-47C7-BCE6-5ACC5CE157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CC9679-DF80-44A7-A2E6-CE44B0A688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16B849-3F61-49F2-9E68-AFB872459D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BC68DA-0C8A-4BC4-96D6-138752BB7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19BA9C-54EC-4252-8017-84BC28327E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E99125-7423-4245-B3F3-E1C6FA5AF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E95740-8BFF-4ED8-9DAE-CE35671F1F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300C2-8B59-4AB0-B749-473542572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6CB8C9-CE64-41D4-A8B6-DEC2308734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626D6-4D02-4686-84E2-C3248C6E9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7772D-DE82-4103-AF74-23DE3B5C1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DDF473-BE8B-4182-93B4-CBFA57F05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6296FC-FDD6-4CE6-A0B4-66FA10CB40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1B8C2B-4E08-430A-8259-96CC9C92B6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74765D-D1A5-4E80-A8C4-2C0CB0833A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EECC46-D9B2-4CF5-ABD8-670C1AF9D2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064438-8373-4725-8F8F-CB9DC354A7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11025F-C606-4565-95B4-F1C592DEE6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325C44-798A-4AAA-929C-2892F7DB5C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8B1DF2-E107-4231-B4B2-B4FD0E71E3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EC892C-83A3-4CBF-BF68-EDC9607E10E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BB22B-BB53-48F0-BEC5-F4D4B2E5970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228600" y="457200"/>
            <a:ext cx="1246320" cy="1371600"/>
            <a:chOff x="228600" y="457200"/>
            <a:chExt cx="1246320" cy="1371600"/>
          </a:xfrm>
        </p:grpSpPr>
        <p:sp>
          <p:nvSpPr>
            <p:cNvPr id="7"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1D745-7E27-44A0-AC26-4897B90BD4D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1"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2" name=""/>
          <p:cNvGrpSpPr/>
          <p:nvPr/>
        </p:nvGrpSpPr>
        <p:grpSpPr>
          <a:xfrm>
            <a:off x="228600" y="1447920"/>
            <a:ext cx="2286000" cy="2514600"/>
            <a:chOff x="228600" y="1447920"/>
            <a:chExt cx="2286000" cy="2514600"/>
          </a:xfrm>
        </p:grpSpPr>
        <p:sp>
          <p:nvSpPr>
            <p:cNvPr id="63"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914400" algn="ctr">
              <a:spcBef>
                <a:spcPts val="550"/>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algn="ctr">
              <a:spcBef>
                <a:spcPts val="499"/>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78f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English</a:t>
            </a:r>
            <a:endParaRPr b="0" lang="en-US" sz="4500" spc="-1" strike="noStrike">
              <a:solidFill>
                <a:srgbClr val="ffffff"/>
              </a:solidFill>
              <a:latin typeface="Arial"/>
            </a:endParaRPr>
          </a:p>
        </p:txBody>
      </p:sp>
      <p:sp>
        <p:nvSpPr>
          <p:cNvPr id="115"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ct. 15</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Agenda</a:t>
            </a:r>
            <a:endParaRPr b="0" lang="en-US" sz="3900" spc="-1" strike="noStrike">
              <a:solidFill>
                <a:srgbClr val="ffffff"/>
              </a:solidFill>
              <a:latin typeface="Arial"/>
            </a:endParaRPr>
          </a:p>
        </p:txBody>
      </p:sp>
      <p:sp>
        <p:nvSpPr>
          <p:cNvPr id="11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L</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z</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17, journal respons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 ch. 18 for homework, do ques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DOL</a:t>
            </a:r>
            <a:endParaRPr b="0" lang="en-US" sz="3900" spc="-1" strike="noStrike">
              <a:solidFill>
                <a:srgbClr val="ffffff"/>
              </a:solidFill>
              <a:latin typeface="Arial"/>
            </a:endParaRPr>
          </a:p>
        </p:txBody>
      </p:sp>
      <p:sp>
        <p:nvSpPr>
          <p:cNvPr id="11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Quiz-May not use books.</a:t>
            </a:r>
            <a:endParaRPr b="0" lang="en-US" sz="3900" spc="-1" strike="noStrike">
              <a:solidFill>
                <a:srgbClr val="ffffff"/>
              </a:solidFill>
              <a:latin typeface="Arial"/>
            </a:endParaRPr>
          </a:p>
        </p:txBody>
      </p:sp>
      <p:sp>
        <p:nvSpPr>
          <p:cNvPr id="12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533520" indent="-533520">
              <a:spcBef>
                <a:spcPts val="700"/>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three rejections the creature faces in the chapters read for homework?</a:t>
            </a:r>
            <a:endParaRPr b="0" lang="en-US" sz="2800" spc="-1" strike="noStrike">
              <a:solidFill>
                <a:srgbClr val="ffffff"/>
              </a:solidFill>
              <a:latin typeface="Arial"/>
            </a:endParaRPr>
          </a:p>
          <a:p>
            <a:pPr marL="533520" indent="-533520">
              <a:spcBef>
                <a:spcPts val="700"/>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did the old man accept the creature?</a:t>
            </a:r>
            <a:endParaRPr b="0" lang="en-US" sz="2800" spc="-1" strike="noStrike">
              <a:solidFill>
                <a:srgbClr val="ffffff"/>
              </a:solidFill>
              <a:latin typeface="Arial"/>
            </a:endParaRPr>
          </a:p>
          <a:p>
            <a:pPr marL="533520" indent="-533520">
              <a:spcBef>
                <a:spcPts val="700"/>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the chapter end?</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Things to think about</a:t>
            </a:r>
            <a:endParaRPr b="0" lang="en-US" sz="3900" spc="-1" strike="noStrike">
              <a:solidFill>
                <a:srgbClr val="ffffff"/>
              </a:solidFill>
              <a:latin typeface="Arial"/>
            </a:endParaRPr>
          </a:p>
        </p:txBody>
      </p:sp>
      <p:sp>
        <p:nvSpPr>
          <p:cNvPr id="12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il</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do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Journal response-2 par.</a:t>
            </a:r>
            <a:endParaRPr b="0" lang="en-US" sz="3900" spc="-1" strike="noStrike">
              <a:solidFill>
                <a:srgbClr val="ffffff"/>
              </a:solidFill>
              <a:latin typeface="Arial"/>
            </a:endParaRPr>
          </a:p>
        </p:txBody>
      </p:sp>
      <p:sp>
        <p:nvSpPr>
          <p:cNvPr id="125"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movie clip we watched, we see a version of the creature that is attractive and accepted by Victor for a short while. Think about how this might have changed the creature and the path his life took. By making the creature hideous on the outside, but kind and intelligent, what does Mary Shelley seem to be saying about human beings and their judgment on what is attrac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5:22:36Z</dcterms:created>
  <dc:creator>vhs</dc:creator>
  <dc:description/>
  <dc:language>en-US</dc:language>
  <cp:lastModifiedBy>Angie</cp:lastModifiedBy>
  <dcterms:modified xsi:type="dcterms:W3CDTF">2009-10-15T05:40:23Z</dcterms:modified>
  <cp:revision>2</cp:revision>
  <dc:subject/>
  <dc:title>English</dc:title>
</cp:coreProperties>
</file>